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10.xml"/><Relationship Id="rId9" Type="http://schemas.openxmlformats.org/officeDocument/2006/relationships/slide" Target="slide9.xml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reatini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Azotämi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5840" y="54936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reatinin ↑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zotämi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endCxn id="101" idx="1"/>
          </p:cNvCxnSpPr>
          <p:nvPr/>
        </p:nvCxnSpPr>
        <p:spPr>
          <a:xfrm flipV="1">
            <a:off x="3322440" y="2729520"/>
            <a:ext cx="2689920" cy="1353600"/>
          </a:xfrm>
          <a:prstGeom prst="bentConnector3">
            <a:avLst>
              <a:gd name="adj1" fmla="val 45602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endCxn id="103" idx="1"/>
          </p:cNvCxnSpPr>
          <p:nvPr/>
        </p:nvCxnSpPr>
        <p:spPr>
          <a:xfrm flipV="1">
            <a:off x="3322440" y="4080600"/>
            <a:ext cx="2689920" cy="2520"/>
          </a:xfrm>
          <a:prstGeom prst="bentConnector3">
            <a:avLst>
              <a:gd name="adj1" fmla="val 45602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ostre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98" idx="3"/>
            <a:endCxn id="104" idx="1"/>
          </p:cNvCxnSpPr>
          <p:nvPr/>
        </p:nvCxnSpPr>
        <p:spPr>
          <a:xfrm>
            <a:off x="3313080" y="4082040"/>
            <a:ext cx="2699280" cy="13482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re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äre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ramur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2600" y="549360"/>
            <a:ext cx="70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reatinin ↑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zotämi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postrenal &gt; Obstruktion der ableite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arnwege (vollständig/partiell) &gt; intramur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9" idx="3"/>
            <a:endCxn id="16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retr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pasmus der Urethra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tralumi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5200" y="54936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Kreatinin ↑ (Azotämie) &gt; postrenal &gt; Obstruktion der ableite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arnwege (vollständig/partiell) &gt; extralumi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4" idx="3"/>
            <a:endCxn id="16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statahyperplas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stat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statatumo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uma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leite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6640" y="549360"/>
            <a:ext cx="786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Kreatinin ↑ (Azotämie) &gt; postrenal &gt; Trauma der ableitenden Harn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9" idx="3"/>
            <a:endCxn id="17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arnblasenruptu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briss der Uretere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äre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lutvolum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uskelmasse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7" idx="3"/>
            <a:endCxn id="10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1" name=""/>
          <p:cNvCxnSpPr>
            <a:stCxn id="107" idx="3"/>
            <a:endCxn id="10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948240" y="549360"/>
            <a:ext cx="35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reatinin ↑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zotämi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äre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5" idx="3"/>
            <a:endCxn id="116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volum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hydrat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46440" y="549360"/>
            <a:ext cx="53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reatinin ↑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zotämi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ärenal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Blutvolum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uskelmasse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48600" y="549360"/>
            <a:ext cx="54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reatinin ↑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zotämi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ärenal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Muskelmasse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9" idx="3"/>
            <a:endCxn id="12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hysiologisch bei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roßen Hunde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35280" y="549360"/>
            <a:ext cx="31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reatinin ↑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zotämi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re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ku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3"/>
            <a:endCxn id="12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8" name=""/>
          <p:cNvCxnSpPr>
            <a:stCxn id="124" idx="3"/>
            <a:endCxn id="129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ku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34200" y="549360"/>
            <a:ext cx="607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reatinin ↑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zotämi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renal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akute 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31" idx="3"/>
            <a:endCxn id="13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ptospir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ypox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in Narkose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ufnahme von Toxi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Ethylenglyko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Rosinen, Weintrauben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stre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60840" y="549360"/>
            <a:ext cx="36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reatinin ↑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zotämi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ostre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bstruk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bleite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arn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(vollständig/partiel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Trauma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ableite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Harn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7" idx="3"/>
            <a:endCxn id="139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2" name=""/>
          <p:cNvCxnSpPr>
            <a:stCxn id="137" idx="3"/>
            <a:endCxn id="140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struk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leite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vollständig/partiel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83240" y="549360"/>
            <a:ext cx="66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reatinin ↑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zotämi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ostrenal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bstruktion der ableite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arnwege (vollständig/partiel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4" idx="3"/>
            <a:endCxn id="147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8" name=""/>
          <p:cNvCxnSpPr>
            <a:stCxn id="144" idx="3"/>
            <a:endCxn id="149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xtralumi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4" idx="3"/>
            <a:endCxn id="150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9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intramur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intralumi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ralumi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83240" y="549360"/>
            <a:ext cx="66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reatinin ↑ (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zotämi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ostrenal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bstruktion der ableite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arnwege (vollständig/partiell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intralumi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3" idx="3"/>
            <a:endCxn id="15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rolithias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ntzündungspropf (FLUTD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4520" y="639684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LUTD = Feline-Lower-Urinary-Tract-Dise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6T17:01:51Z</dcterms:modified>
  <cp:revision>328</cp:revision>
  <dc:subject/>
  <dc:title>Vorstellung einer Neuheit</dc:title>
</cp:coreProperties>
</file>